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3AF4-68DB-4828-BC4D-05103798EB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3DF6-F8CE-4A16-BE0D-21CF8FD587E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3529-9287-4830-AEBB-B25E28B9423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B0FF-B7D7-4F09-9002-DB7210DE950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8B79-691E-444B-BCBA-4C2B47DBFE8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D07E-4F1F-4262-BB7A-C1756840182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3100-33F4-4C4A-AB0E-59E5C593E5A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C24D-2797-458B-9F08-9CB34408C69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7E64-9FB2-4403-BE91-876544D8DCD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DEC-DC17-4634-B394-7076BF608B2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599B-73F5-4CD6-BB91-ADC816AFD12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861A-C76D-4959-B865-84E8C92E5EC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639720" y="5032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108B-8B00-469B-8298-63E2D505F9E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668600" y="179532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3012"/>
                </a:solidFill>
                <a:latin typeface="Tahoma"/>
              </a:rPr>
              <a:t>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E3AB-6318-44D5-B7C4-10A0409A9EB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0FD7-8AAB-4E8F-A495-FF9AFF8D70A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E5A6-64C6-49A6-821C-61BE206E59A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37C-7017-4E8C-B665-E24457288D4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4978-BB90-46B8-B461-681D83019D9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1DC-C380-4723-9930-050D534AC1E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C8FA-EFF9-4BFF-B9B4-855F1964156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000C-3AC9-44F7-A6F7-260FEF37CE6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17CF-0F04-443A-86CB-93DF16C6CD0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59920"/>
            <a:ext cx="84103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Unicode MS"/>
              </a:rPr>
              <a:t>Accelerating Housing Development in London</a:t>
            </a:r>
            <a:br>
              <a:rPr sz="4000"/>
            </a:b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Findings and Recommendations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7160" y="3068280"/>
            <a:ext cx="8035920" cy="32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Nancy Holman, Kath Scanlon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and Christine Whiteh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73737"/>
                </a:solidFill>
                <a:latin typeface="Arial Unicode MS"/>
              </a:rPr>
              <a:t>LSE Lond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Lucida Sans"/>
              </a:rPr>
              <a:t>23 June 2016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Lucida Sans"/>
              </a:rPr>
              <a:t>L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17240" y="1208160"/>
            <a:ext cx="678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Zones are promising BUT we should </a:t>
            </a: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not dilute the concept 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– not helpful to do too many at the same tim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Make the current set work 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efore adding more designations.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44568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GB" sz="4000" spc="-1" strike="noStrike">
                <a:solidFill>
                  <a:srgbClr val="000066"/>
                </a:solidFill>
                <a:latin typeface="Arial Unicode MS"/>
              </a:rPr>
              <a:t>3) Large sites 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e contribution of large sites in London, 2009-1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8 boroughs it would take 250 years to build these sites out at current ra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47640" y="2421000"/>
          <a:ext cx="7128000" cy="1493640"/>
        </p:xfrm>
        <a:graphic>
          <a:graphicData uri="http://schemas.openxmlformats.org/drawingml/2006/table">
            <a:tbl>
              <a:tblPr/>
              <a:tblGrid>
                <a:gridCol w="2192400"/>
                <a:gridCol w="1530360"/>
                <a:gridCol w="1760760"/>
                <a:gridCol w="1644480"/>
              </a:tblGrid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ize in un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 units in pipe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% of comple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umber of comple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ver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&lt;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0-14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&lt; 2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…</a:t>
            </a: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and small sit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17600" y="120816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umbers of small builders in London have fallen massively…and continue to fal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Hard for them to play a role on large sites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ifficult to find appropriate small si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roblems with finance and costs of planning permiss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17600" y="120816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On large si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Increase number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f developers and types of unit on each sit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On small si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Better access to public/infill sites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dicated GLA support tea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issemination of good practic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andardisation of planning/legal proces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…</a:t>
            </a: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and also 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17600" y="120816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Encourage</a:t>
            </a: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 different types of hous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ustom buil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odern methods of construc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mmunity-led mode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iche markets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US" sz="4000" spc="-1" strike="noStrike">
                <a:solidFill>
                  <a:srgbClr val="00007f"/>
                </a:solidFill>
                <a:latin typeface="Arial Unicode MS"/>
              </a:rPr>
              <a:t>4) Purpose-built PRS housing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8920" y="141300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ig advantage: spee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3,500 completed in London and15,000 in the pipelin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Most investors require subsidy or guarantees.  Long-term commitment?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Rents generally high, and little contribution of genuinely affordable  hous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1052640"/>
            <a:ext cx="76485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investors would provide discounted market-rent units 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if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they could retain ownership but LAs uncertai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stablished corporate landlords should be permitted to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control and manage affordable unit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As and local authorities should be encouraged to take larger role in market hous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08000" y="28080"/>
            <a:ext cx="975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US" sz="4000" spc="-1" strike="noStrike">
                <a:solidFill>
                  <a:srgbClr val="00007f"/>
                </a:solidFill>
                <a:latin typeface="Arial Unicode MS"/>
              </a:rPr>
              <a:t>5) National policies and London reality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17600" y="1208160"/>
            <a:ext cx="743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ational policy:   owner-occupation – doesn’t work in large parts of Lond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Housing &amp; Planning Act will reduce quantum of affordable housing in Lond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oroughs hemmed in by rules on spending RTB receipts and housing homel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Up Arrow 3"/>
          <p:cNvSpPr/>
          <p:nvPr/>
        </p:nvSpPr>
        <p:spPr>
          <a:xfrm>
            <a:off x="4572000" y="1844640"/>
            <a:ext cx="216000" cy="432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17600" y="1208160"/>
            <a:ext cx="743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entral government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ncourage a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flexible London-wide approach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o housing targets, including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more focus on rental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oroughs/GLA/central government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gree a way to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use RTB receipts and apply modified Starter-Homes provisions on a London-wide basi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…</a:t>
            </a: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and importantly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17600" y="1208160"/>
            <a:ext cx="743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Everyone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cognise that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deal making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s possible—and necessar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72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ahoma"/>
              </a:rPr>
              <a:t>The Goal: 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Tahoma"/>
              </a:rPr>
              <a:t>50,000 homes—more than double 2015/16 completions 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403280" y="1773360"/>
            <a:ext cx="71074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Unicode MS"/>
              </a:rPr>
              <a:t>The Ques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should be done now---and in the longer term---to make that happ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Final observat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17240" y="1217520"/>
            <a:ext cx="8007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50,000 units is a massive challen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High % affordable: even more challeng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jectory has been generally good </a:t>
            </a:r>
            <a:r>
              <a:rPr b="1" lang="en-GB" sz="3200" spc="-1" strike="noStrike">
                <a:solidFill>
                  <a:srgbClr val="ff0000"/>
                </a:solidFill>
                <a:latin typeface="Arial Unicode MS"/>
              </a:rPr>
              <a:t>except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on affordabilit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Governance a major issue – and devolution may be more difficult in London than in other c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eed a coherent programme of chang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2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240" y="981000"/>
            <a:ext cx="70851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e Mayor’s next London Plan must deal decisively with the housing issue (and much else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de-offs, deals, simplification and transparency are ke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Our recommendations are a start but on their own not enough…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9252000" cy="16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Recap: our recommendat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03280" y="691920"/>
            <a:ext cx="774072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reater planning transparency, more expertise in local authorities and incentives for more affordable hous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t rid of the viability rul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ake existing Housing Zones wor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t more developers on big sites and make  more public land available to small build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et major corporate landlords manage affordable uni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dopt London-wide approach to RTB receipts and Starter Homes provis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Make dea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Why is London different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15640" y="1267920"/>
            <a:ext cx="755964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Demand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mographic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ange of available job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conomic growth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upply: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lexible housing stock but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very expensive land, most of which is brownfiel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17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…</a:t>
            </a: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and further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280" y="1217520"/>
            <a:ext cx="79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ize of social - market rent gap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hortage of intermediate and cheap hous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Rental housing makes sense for more people than in the rest of the countr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omplex governance – 33 boroughs + GL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41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f"/>
                </a:solidFill>
                <a:latin typeface="Arial Unicode MS"/>
              </a:rPr>
              <a:t>Opportuniti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17240" y="1208160"/>
            <a:ext cx="714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New mayo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olitical goodwil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etter incentives for local authorities to allow developm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Possible changes in CPO pow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US" sz="4000" spc="-1" strike="noStrike">
                <a:solidFill>
                  <a:srgbClr val="00007f"/>
                </a:solidFill>
                <a:latin typeface="Arial Unicode MS"/>
              </a:rPr>
              <a:t>1) Planning certainty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17240" y="1557360"/>
            <a:ext cx="685476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urrent system is costly, risky, time-consuming and encourages gam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Viability’ rules make affordable housing harder to achiev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What could be done?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17600" y="1052640"/>
            <a:ext cx="7431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 tariff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would   certainty and speed but provide less affordable housing on high-value si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t minimum we need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transparency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of viability calcul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more expertise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 local authorities an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incentive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for developers to accept reasonable affordable-housing contributions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Up Arrow 3"/>
          <p:cNvSpPr/>
          <p:nvPr/>
        </p:nvSpPr>
        <p:spPr>
          <a:xfrm>
            <a:off x="4140360" y="1052640"/>
            <a:ext cx="287280" cy="431640"/>
          </a:xfrm>
          <a:prstGeom prst="upArrow">
            <a:avLst>
              <a:gd name="adj1" fmla="val 50000"/>
              <a:gd name="adj2" fmla="val 50160"/>
            </a:avLst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f"/>
                </a:solidFill>
                <a:latin typeface="Arial Unicode MS"/>
              </a:rPr>
              <a:t>But most importantly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17600" y="1052640"/>
            <a:ext cx="7826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e capacity to re-visit agreements through the </a:t>
            </a:r>
            <a:r>
              <a:rPr b="0" lang="en-GB" sz="3200" spc="-1" strike="noStrike">
                <a:solidFill>
                  <a:srgbClr val="ff0000"/>
                </a:solidFill>
                <a:latin typeface="Arial Unicode MS"/>
              </a:rPr>
              <a:t>viability policy should be revoke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7920" y="6480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What should we be looking at?</a:t>
            </a:r>
            <a:br>
              <a:rPr sz="2800"/>
            </a:br>
            <a:r>
              <a:rPr b="1" lang="en-US" sz="4000" spc="-1" strike="noStrike">
                <a:solidFill>
                  <a:srgbClr val="00007f"/>
                </a:solidFill>
                <a:latin typeface="Arial Unicode MS"/>
              </a:rPr>
              <a:t>2) Housing Zone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17600" y="120816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Currently 31, covering historically problematic area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Goal: 77,000 homes, 1/3 affordab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takeholders jointly focus on well- defined en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dentified pinch poin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Real (though small) money available 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But no changes in planning powers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Ulises Moreno</cp:lastModifiedBy>
  <cp:lastPrinted>2016-06-23T13:57:01Z</cp:lastPrinted>
  <dcterms:modified xsi:type="dcterms:W3CDTF">2016-06-27T14:37:42Z</dcterms:modified>
  <cp:revision>254</cp:revision>
  <dc:subject/>
  <dc:title>Impacts of Recent International Migration on a Destination City  some observations from London</dc:title>
</cp:coreProperties>
</file>