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A4EF-222F-4AF6-87EA-0840BF77C8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D28-3C6A-494F-B5C7-84301A0D163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9B52-AB1D-4A79-B40B-81EC2BE4B14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2C47-0419-405B-AAF6-7A28BC1D068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F836-2EF1-4143-A110-367D5A1FF98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AC4B-79E0-4C4D-B022-42AFB3977AA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2748-84A7-4DE7-B72E-DD0A279A8A6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7C7B-FD26-4C6C-9DC0-0A7DDB0611C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882D-08CB-4740-8DE7-EF4C9FEF825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DEDD-BF64-4682-8A2A-4E097D98E66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0396-6D00-426D-9FEB-060374E3495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B673-D968-4CA8-96EA-34FAC4EC5C0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639720" y="5032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CA1F-DFAD-4905-B232-08BDA8D9BC9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668600" y="179532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3012"/>
                </a:solidFill>
                <a:latin typeface="Tahoma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1393-6555-4AAF-B14F-749F5BAAEF4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424E-21FB-4F26-B937-86C97C42F81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22B-CF88-436C-9202-12A73161324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8E8F-4B53-402E-8A7F-06AE444623D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AC8A-F07F-4887-9D96-78D2E1838A9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CE3F-4D25-4FA1-965A-659BB942090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A144-D43A-49A4-94D9-796EEE55A2C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AF2E-0D02-480B-8C7C-0968168FF25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9539-C74B-4DDC-89F1-046115F86E0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59920"/>
            <a:ext cx="84103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Unicode MS"/>
              </a:rPr>
              <a:t>Accelerating Housing Development in London</a:t>
            </a:r>
            <a:br>
              <a:rPr sz="4000"/>
            </a:b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Findings and Recommendation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7160" y="3068280"/>
            <a:ext cx="8035920" cy="32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Nancy Holman, Kath Scanlon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and Christine Whiteh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73737"/>
                </a:solidFill>
                <a:latin typeface="Arial Unicode MS"/>
              </a:rPr>
              <a:t>LSE Lond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Lucida Sans"/>
              </a:rPr>
              <a:t>23 June 2016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Lucida Sans"/>
              </a:rPr>
              <a:t>L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17240" y="1208160"/>
            <a:ext cx="678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Zones are promising BUT we should </a:t>
            </a: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not dilute the concept 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– not helpful to do too many at the same tim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Make the current set work 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efore adding more designations.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44568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GB" sz="4000" spc="-1" strike="noStrike">
                <a:solidFill>
                  <a:srgbClr val="000066"/>
                </a:solidFill>
                <a:latin typeface="Arial Unicode MS"/>
              </a:rPr>
              <a:t>3) Large sites 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e contribution of large sites in London, 2009-1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8 boroughs it would take 250 years to build these sites out at current ra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47640" y="2421000"/>
          <a:ext cx="7128000" cy="1493640"/>
        </p:xfrm>
        <a:graphic>
          <a:graphicData uri="http://schemas.openxmlformats.org/drawingml/2006/table">
            <a:tbl>
              <a:tblPr/>
              <a:tblGrid>
                <a:gridCol w="2192400"/>
                <a:gridCol w="1530360"/>
                <a:gridCol w="1760760"/>
                <a:gridCol w="1644480"/>
              </a:tblGrid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ize in un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 units in pipe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 of comple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umber of comple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ver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&lt;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0-14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&lt; 2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…</a:t>
            </a: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and small sit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17600" y="120816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umbers of small builders in London have fallen massively…and continue to fal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Hard for them to play a role on large sites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ifficult to find appropriate small si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roblems with finance and costs of planning permiss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17600" y="120816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On large si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crease number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f developers and types of unit on each sit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On small si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etter access to public/infill sites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dicated GLA support tea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issemination of good practic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andardisation of planning/legal proces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…</a:t>
            </a: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and also 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17600" y="120816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Encourage</a:t>
            </a: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 different types of hous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ustom buil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odern methods of construc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mmunity-led mode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iche markets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US" sz="4000" spc="-1" strike="noStrike">
                <a:solidFill>
                  <a:srgbClr val="00007f"/>
                </a:solidFill>
                <a:latin typeface="Arial Unicode MS"/>
              </a:rPr>
              <a:t>4) Purpose-built PRS housing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8920" y="141300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ig advantage: spee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3,500 completed in London and15,000 in the pipelin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Most investors require subsidy or guarantees.  Long-term commitment?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Rents generally high, and little contribution of genuinely affordable  hous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1052640"/>
            <a:ext cx="76485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investors would provide discounted market-rent units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f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they could retain ownership but LAs uncertai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stablished corporate landlords should be permitted to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control and manage affordable unit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As and local authorities should be encouraged to take larger role in market hous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08000" y="28080"/>
            <a:ext cx="975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US" sz="4000" spc="-1" strike="noStrike">
                <a:solidFill>
                  <a:srgbClr val="00007f"/>
                </a:solidFill>
                <a:latin typeface="Arial Unicode MS"/>
              </a:rPr>
              <a:t>5) National policies and London reality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17600" y="1208160"/>
            <a:ext cx="743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ational policy:   owner-occupation – doesn’t work in large parts of Lond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Housing &amp; Planning Act will reduce quantum of affordable housing in Lond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oroughs hemmed in by rules on spending RTB receipts and housing homel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Up Arrow 3"/>
          <p:cNvSpPr/>
          <p:nvPr/>
        </p:nvSpPr>
        <p:spPr>
          <a:xfrm>
            <a:off x="4572000" y="1844640"/>
            <a:ext cx="216000" cy="432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17600" y="1208160"/>
            <a:ext cx="743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entral government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ncourage a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flexible London-wide approach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o housing targets, including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more focus on rental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oroughs/GLA/central government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gree a way to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use RTB receipts and apply modified Starter-Homes provisions on a London-wide basi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…</a:t>
            </a: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and importantly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17600" y="1208160"/>
            <a:ext cx="743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Everyone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cognise that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deal making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s possible—and necessar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72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ahoma"/>
              </a:rPr>
              <a:t>The Goal: 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ahoma"/>
              </a:rPr>
              <a:t>50,000 homes—more than double 2015/16 completions 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403280" y="1773360"/>
            <a:ext cx="71074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Unicode MS"/>
              </a:rPr>
              <a:t>The Ques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should be done now---and in the longer term---to make that happ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Final observat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17240" y="1217520"/>
            <a:ext cx="8007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50,000 units is a massive challen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High % affordable: even more challeng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jectory has been generally good </a:t>
            </a:r>
            <a:r>
              <a:rPr b="1" lang="en-GB" sz="3200" spc="-1" strike="noStrike">
                <a:solidFill>
                  <a:srgbClr val="ff0000"/>
                </a:solidFill>
                <a:latin typeface="Arial Unicode MS"/>
              </a:rPr>
              <a:t>except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on affordabilit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Governance a major issue – and devolution may be more difficult in London than in other c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eed a coherent programme of chan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2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240" y="981000"/>
            <a:ext cx="70851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e Mayor’s next London Plan must deal decisively with the housing issue (and much else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de-offs, deals, simplification and transparency are ke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Our recommendations are a start but on their own not enough…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9252000" cy="16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Recap: our recommendat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03280" y="691920"/>
            <a:ext cx="774072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reater planning transparency, more expertise in local authorities and incentives for more affordable hous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t rid of the viability rul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ake existing Housing Zones wor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t more developers on big sites and make  more public land available to small build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et major corporate landlords manage affordable uni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dopt London-wide approach to RTB receipts and Starter Homes provis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Make dea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Why is London different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15640" y="1267920"/>
            <a:ext cx="755964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emand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mographic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ange of available job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conomic growth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upply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lexible housing stock but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very expensive land, most of which is brownfiel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17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…</a:t>
            </a: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and further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280" y="1217520"/>
            <a:ext cx="79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ize of social - market rent gap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hortage of intermediate and cheap hous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Rental housing makes sense for more people than in the rest of the countr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mplex governance – 33 boroughs + GL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Opportuniti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17240" y="1208160"/>
            <a:ext cx="714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ew mayo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olitical goodwil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etter incentives for local authorities to allow developm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ossible changes in CPO pow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US" sz="4000" spc="-1" strike="noStrike">
                <a:solidFill>
                  <a:srgbClr val="00007f"/>
                </a:solidFill>
                <a:latin typeface="Arial Unicode MS"/>
              </a:rPr>
              <a:t>1) Planning certainty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17240" y="1557360"/>
            <a:ext cx="685476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urrent system is costly, risky, time-consuming and encourages gam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Viability’ rules make affordable housing harder to achiev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17600" y="1052640"/>
            <a:ext cx="7431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 tariff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would   certainty and speed but provide less affordable housing on high-value si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t minimum we need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transparency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of viability calcul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more expertise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local authorities an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incentive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for developers to accept reasonable affordable-housing contributions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Up Arrow 3"/>
          <p:cNvSpPr/>
          <p:nvPr/>
        </p:nvSpPr>
        <p:spPr>
          <a:xfrm>
            <a:off x="4140360" y="1052640"/>
            <a:ext cx="287280" cy="431640"/>
          </a:xfrm>
          <a:prstGeom prst="upArrow">
            <a:avLst>
              <a:gd name="adj1" fmla="val 50000"/>
              <a:gd name="adj2" fmla="val 50160"/>
            </a:avLst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But most importantly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17600" y="1052640"/>
            <a:ext cx="7826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e capacity to re-visit agreements through the </a:t>
            </a: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viability policy should be revoke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7920" y="6480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US" sz="4000" spc="-1" strike="noStrike">
                <a:solidFill>
                  <a:srgbClr val="00007f"/>
                </a:solidFill>
                <a:latin typeface="Arial Unicode MS"/>
              </a:rPr>
              <a:t>2) Housing Zon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17600" y="120816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urrently 31, covering historically problematic area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Goal: 77,000 homes, 1/3 affordab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takeholders jointly focus on well- defined en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dentified pinch poin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Real (though small) money available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ut no changes in planning powers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Ulises Moreno</cp:lastModifiedBy>
  <cp:lastPrinted>2016-06-23T13:57:01Z</cp:lastPrinted>
  <dcterms:modified xsi:type="dcterms:W3CDTF">2016-06-27T14:37:42Z</dcterms:modified>
  <cp:revision>254</cp:revision>
  <dc:subject/>
  <dc:title>Impacts of Recent International Migration on a Destination City  some observations from London</dc:title>
</cp:coreProperties>
</file>